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0E9A-4294-4A1A-9BAF-C341CA949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CC52-8AC9-4980-B847-A9AE4E51C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B671-BB6D-427C-B9A0-7B9707256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5F64-3A4D-4D77-A0F6-C986BA61D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9BAA-23A3-4903-AC1F-17CC2D468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2A42-3111-4647-BB8B-17A4CC801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D30-11C5-476D-A14D-C8A54E11E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1E49-16B2-4778-B0F0-A8ABE3489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B11D-FF61-4F74-A702-C8B183408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29B9-ED3B-4F18-8BFC-8760E4C03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D517-4109-4026-B88E-B515772BF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1206-0370-48A6-95D2-30B578BD2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749F-421C-42D6-B306-E1C069C13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D8ED-3B5C-4BA4-B891-826E7B5B8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50DF-4840-4AB1-BFB2-10E192232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0F7F-E473-4C3A-9AA1-39C9164B0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2333-C693-4961-A776-A59C5C881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CB54-E13C-4B07-9E87-6F0FB9059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F745-EFFC-41A2-93D6-80AF2D746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9FCC-BCF9-497F-989C-70F50BB83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207D-FAFD-44FD-A01A-8F7C15559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D079-2D95-4243-80E9-A587F33E3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FAC-93E4-4B41-9537-03D17AC0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E43-F637-4154-B2BB-FA3383DA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54A-7CAE-43CF-95BB-72B2AE6A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502-D630-452F-A65D-C5B1E0BD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A02-31DE-4608-898C-F00BDE37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343-BF56-4387-AA53-D8DA9C64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C08-E335-4E25-B48B-F9D005A3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899-BAE8-4C21-8F1C-24A65DB5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15A-6501-4069-ADA2-89E66426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196-3959-4DDB-BA1B-9914E85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416-F402-479D-8815-B73F5FD5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D48-494A-42C0-9AC9-7E9733E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2" name="Rectangle 20"/>
            <p:cNvSpPr/>
            <p:nvPr/>
          </p:nvSpPr>
          <p:spPr>
            <a:xfrm>
              <a:off x="457200" y="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3" name="Rectangle 21"/>
            <p:cNvSpPr/>
            <p:nvPr/>
          </p:nvSpPr>
          <p:spPr>
            <a:xfrm flipH="1">
              <a:off x="457200" y="38088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4" name="Rectangle 22"/>
            <p:cNvSpPr/>
            <p:nvPr/>
          </p:nvSpPr>
          <p:spPr>
            <a:xfrm>
              <a:off x="8686800" y="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" name="Rectangle 23"/>
            <p:cNvSpPr/>
            <p:nvPr/>
          </p:nvSpPr>
          <p:spPr>
            <a:xfrm>
              <a:off x="304920" y="38340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6" name="Rectangle 24"/>
            <p:cNvSpPr/>
            <p:nvPr/>
          </p:nvSpPr>
          <p:spPr>
            <a:xfrm>
              <a:off x="457200" y="64778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7" name="Rectangle 25"/>
            <p:cNvSpPr/>
            <p:nvPr/>
          </p:nvSpPr>
          <p:spPr>
            <a:xfrm flipH="1">
              <a:off x="304200" y="31068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284e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33520" y="61034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84e6a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920D-6988-42DA-BCBC-61C772B26490}" type="datetime">
              <a:rPr b="0" lang="en-US" sz="1000" spc="-1" strike="noStrike">
                <a:solidFill>
                  <a:srgbClr val="284e6a"/>
                </a:solidFill>
                <a:latin typeface="Bookman Old Styl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1034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84e6a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4e6a"/>
                </a:solidFill>
                <a:latin typeface="Bookman Old Sty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477120" y="61034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84e6a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7F39-08B7-45CC-88FA-E0887E40CF02}" type="slidenum">
              <a:rPr b="0" lang="en-US" sz="1000" spc="-1" strike="noStrike">
                <a:solidFill>
                  <a:srgbClr val="284e6a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51" name="Rectangle 20"/>
            <p:cNvSpPr/>
            <p:nvPr/>
          </p:nvSpPr>
          <p:spPr>
            <a:xfrm>
              <a:off x="457200" y="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2" name="Rectangle 21"/>
            <p:cNvSpPr/>
            <p:nvPr/>
          </p:nvSpPr>
          <p:spPr>
            <a:xfrm flipH="1">
              <a:off x="457200" y="38088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3" name="Rectangle 22"/>
            <p:cNvSpPr/>
            <p:nvPr/>
          </p:nvSpPr>
          <p:spPr>
            <a:xfrm>
              <a:off x="8686800" y="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4" name="Rectangle 23"/>
            <p:cNvSpPr/>
            <p:nvPr/>
          </p:nvSpPr>
          <p:spPr>
            <a:xfrm>
              <a:off x="304920" y="38340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5" name="Rectangle 24"/>
            <p:cNvSpPr/>
            <p:nvPr/>
          </p:nvSpPr>
          <p:spPr>
            <a:xfrm>
              <a:off x="457200" y="64778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 flipH="1">
              <a:off x="304200" y="31068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Rectangle 6" descr=""/>
            <p:cNvPicPr/>
            <p:nvPr/>
          </p:nvPicPr>
          <p:blipFill>
            <a:blip r:embed="rId3"/>
            <a:stretch/>
          </p:blipFill>
          <p:spPr>
            <a:xfrm>
              <a:off x="5760" y="0"/>
              <a:ext cx="9132120" cy="685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Rectangle 15"/>
            <p:cNvGrpSpPr/>
            <p:nvPr/>
          </p:nvGrpSpPr>
          <p:grpSpPr>
            <a:xfrm>
              <a:off x="0" y="5177160"/>
              <a:ext cx="9144000" cy="1680840"/>
              <a:chOff x="0" y="5177160"/>
              <a:chExt cx="9144000" cy="1680840"/>
            </a:xfrm>
          </p:grpSpPr>
          <p:pic>
            <p:nvPicPr>
              <p:cNvPr id="60" name="Rectangl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5177160"/>
                <a:ext cx="9144000" cy="16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760" y="5180040"/>
                <a:ext cx="9132120" cy="167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egoe Condensed"/>
                </a:endParaRPr>
              </a:p>
            </p:txBody>
          </p:sp>
        </p:grpSp>
        <p:sp>
          <p:nvSpPr>
            <p:cNvPr id="62" name="Rectangle 13"/>
            <p:cNvSpPr/>
            <p:nvPr/>
          </p:nvSpPr>
          <p:spPr>
            <a:xfrm>
              <a:off x="5760" y="5253120"/>
              <a:ext cx="9132120" cy="15987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25098"/>
                  </a:srgbClr>
                </a:gs>
                <a:gs pos="100000">
                  <a:srgbClr val="a46721">
                    <a:alpha val="2509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5760" y="3349800"/>
              <a:ext cx="9132120" cy="1825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5760" y="5177160"/>
              <a:ext cx="91321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284e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105" name="Rectangle 20"/>
            <p:cNvSpPr/>
            <p:nvPr/>
          </p:nvSpPr>
          <p:spPr>
            <a:xfrm>
              <a:off x="457200" y="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 flipH="1">
              <a:off x="457200" y="38088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8686800" y="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304920" y="38340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57200" y="64778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 flipH="1">
              <a:off x="304200" y="31068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284e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22960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e6a"/>
                </a:solidFill>
                <a:latin typeface="Bookman Old Style"/>
              </a:rPr>
              <a:t>Variable Annuity Pricing</a:t>
            </a:r>
            <a:endParaRPr b="0" lang="en-US" sz="48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48640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eorge Legrand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rc Hansen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ndor Weyers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Fund Projection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1676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ngle scenario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96080" y="1905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ngle scenario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4CE-9482-4D02-86C0-79615C503F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e6a"/>
                </a:solidFill>
                <a:latin typeface="Bookman Old Style"/>
              </a:rPr>
              <a:t>Additional Fund Withdrawals</a:t>
            </a:r>
            <a:endParaRPr b="0" lang="en-US" sz="3600" spc="-1" strike="noStrike">
              <a:solidFill>
                <a:srgbClr val="284e6a"/>
              </a:solidFill>
              <a:latin typeface="Bookman Old Style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0" y="2590920"/>
          <a:ext cx="399420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90920"/>
                    <a:ext cx="3994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762120" y="129528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09480" y="12952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e6a"/>
                </a:solidFill>
                <a:latin typeface="Bookman Old Style"/>
              </a:rPr>
              <a:t>As the fund’s actual returns deviate further from the funds’ expected returns, clients start withdrawing more of their money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313524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722-3E16-4444-9425-AFCEC4C8C1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Pretax Income Statemen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1295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ngle scenario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6727680" cy="541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BCF-AE0C-435F-B158-DBA879C755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Expense Assumption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14880" cy="47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2DE-BCCD-4CBB-95B9-4F28951B3B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34480" cy="4391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581280" y="586728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% charge provides highest 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$ profit but not highest profit margin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895120" y="4191120"/>
            <a:ext cx="114300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638680" y="4038480"/>
            <a:ext cx="2210040" cy="182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81B-C9DA-4103-9128-1390D3C326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Assuming we want to maximize $ profit, we choose a 3% fund charge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499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This attracts $5,000 million in revenue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499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Mean profit is $369.62 million and the standard deviation of profit is $511.72 million with a profit margin of 7.39%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619440" cy="27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069-E3CF-4F60-8D65-0C6109A42F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4e6a"/>
                </a:solidFill>
                <a:latin typeface="Segoe Condensed"/>
              </a:rPr>
              <a:t>Based on the current fund composition, we will have a loss on the book of business of $214.06 million or more with a probability of 5%</a:t>
            </a:r>
            <a:endParaRPr b="0" lang="en-US" sz="19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476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4e6a"/>
                </a:solidFill>
                <a:latin typeface="Segoe Condensed"/>
              </a:rPr>
              <a:t>The probability of making a loss on this portfolio is 23.53%</a:t>
            </a:r>
            <a:endParaRPr b="0" lang="en-US" sz="1900" spc="-1" strike="noStrike">
              <a:solidFill>
                <a:srgbClr val="284e6a"/>
              </a:solidFill>
              <a:latin typeface="Segoe Condense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132440" cy="2630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4132440" cy="26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15E-E9A8-428C-8421-F0E469E7C9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e6a"/>
                </a:solidFill>
                <a:latin typeface="Bookman Old Style"/>
              </a:rPr>
              <a:t>Additional Features</a:t>
            </a:r>
            <a:endParaRPr b="0" lang="en-US" sz="36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e6a"/>
                </a:solidFill>
                <a:latin typeface="Segoe Condensed"/>
              </a:rPr>
              <a:t>Guaranteed minimum death benefit (GMDB)</a:t>
            </a:r>
            <a:endParaRPr b="0" lang="en-US" sz="22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51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e6a"/>
                </a:solidFill>
                <a:latin typeface="Segoe Condensed"/>
              </a:rPr>
              <a:t>If the client dies before his annuity matures, his/her beneficiary receives the maximum of the fund value and the initial deposit </a:t>
            </a:r>
            <a:endParaRPr b="0" lang="en-US" sz="1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51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e6a"/>
                </a:solidFill>
                <a:latin typeface="Segoe Condensed"/>
              </a:rPr>
              <a:t>This is equivalent to issuing a put option to the beneficiary</a:t>
            </a:r>
            <a:endParaRPr b="0" lang="en-US" sz="1800" spc="-1" strike="noStrike">
              <a:solidFill>
                <a:srgbClr val="284e6a"/>
              </a:solidFill>
              <a:latin typeface="Segoe Condense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5155920" cy="3940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352680" y="3657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money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396252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 of the money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37339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C0B-FA67-49B4-8415-7DF063AE86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GMDB Cash Flow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37400" cy="50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A23-30B0-490A-ACC0-3F5DEFCD23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GMDB Cos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522520" cy="2867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62520" y="457200"/>
            <a:ext cx="4653000" cy="2960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324480" y="1219320"/>
            <a:ext cx="12956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bp = 67.5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962520" y="3505320"/>
            <a:ext cx="4653000" cy="2960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477120" y="4267080"/>
            <a:ext cx="12952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4419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6bp = 89.0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34E-5310-43EE-A83E-C02E019554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Agenda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Background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Objective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Assumption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Model Overview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Result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Limitation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Q&amp;A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48A-FB8A-4443-B265-220E8773D8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Limitations and Improvement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A more robust demand function and withdrawal function could be developed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The long-tail risk as a result of issuing the put option (GMDB) could be hedged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15F-B9B2-4587-BC4B-D30F372B8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84e6a"/>
                </a:solidFill>
                <a:latin typeface="Bookman Old Style"/>
              </a:rPr>
              <a:t>Q&amp;A</a:t>
            </a:r>
            <a:endParaRPr b="0" lang="en-US" sz="6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70C-D962-4766-86C0-62DE2F797F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Background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Imagine you were a portfolio manager for retirement savings fund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Now you are looking to launch a new product with new features and would like to know how much to charge consumers for this produc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520-363E-499C-B078-6819FD1A17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Background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he product you would like to introduce isw a variable annuity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45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A variable annuity is a retirement savings product whereby a client invests his/her money on a tax-deferred basis into a variety of investment fund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80A-A5EA-40D7-907D-F6E4E54B6B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Objective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60776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o determine optimal price to maximize profi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o price additional product feature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E40-11C3-43D5-9FDA-05F9D433B4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Assumption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Fund returns/volatilities: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99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1926-2005 historical data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Three available funds: 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99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Stock, bond, and balanced (50/50)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Fund withdrawals increase with poor returns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Assume a $50 billion market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88C-4AD6-4FB0-8356-F432BE828A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Model Overview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Inpu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Customer’s chooses fund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25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25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25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Processing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55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e6a"/>
                </a:solidFill>
                <a:latin typeface="Segoe Condensed"/>
              </a:rPr>
              <a:t>Generate fund returns using Crystal ball for each level of fund charge</a:t>
            </a:r>
            <a:endParaRPr b="0" lang="en-US" sz="22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55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e6a"/>
                </a:solidFill>
                <a:latin typeface="Segoe Condensed"/>
              </a:rPr>
              <a:t>Calculate profit for each set of fund returns </a:t>
            </a:r>
            <a:endParaRPr b="0" lang="en-US" sz="22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55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e6a"/>
                </a:solidFill>
                <a:latin typeface="Segoe Condensed"/>
              </a:rPr>
              <a:t>Choose the fund charge that maximizes $ profit </a:t>
            </a:r>
            <a:endParaRPr b="0" lang="en-US" sz="2200" spc="-1" strike="noStrike">
              <a:solidFill>
                <a:srgbClr val="284e6a"/>
              </a:solidFill>
              <a:latin typeface="Segoe Condense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657600" cy="254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0A7-D731-4ABF-96E8-B992FEDA58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Fund Selection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89640" cy="378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E23-CD01-4677-B66B-F69E4CCD90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e6a"/>
                </a:solidFill>
                <a:latin typeface="Bookman Old Style"/>
              </a:rPr>
              <a:t>Demand Function</a:t>
            </a:r>
            <a:endParaRPr b="0" lang="en-US" sz="36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143000"/>
            <a:ext cx="64008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284e6a"/>
                </a:solidFill>
                <a:uFillTx/>
                <a:latin typeface="Bookman Old Style"/>
              </a:rPr>
              <a:t>Market share: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   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10% if fund charge is 3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   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10% x e</a:t>
            </a:r>
            <a:r>
              <a:rPr b="0" lang="en-US" sz="1400" spc="-1" strike="noStrike" baseline="30000">
                <a:solidFill>
                  <a:srgbClr val="284e6a"/>
                </a:solidFill>
                <a:latin typeface="Bookman Old Style"/>
              </a:rPr>
              <a:t>(fund charge – 3%)</a:t>
            </a:r>
            <a:r>
              <a:rPr b="0" lang="en-US" sz="1400" spc="-1" strike="noStrike" baseline="52000">
                <a:solidFill>
                  <a:srgbClr val="284e6a"/>
                </a:solidFill>
                <a:latin typeface="Bookman Old Style"/>
              </a:rPr>
              <a:t>0.2   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if fund charge &lt; 3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   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10% x e</a:t>
            </a:r>
            <a:r>
              <a:rPr b="0" lang="en-US" sz="1400" spc="-1" strike="noStrike" baseline="30000">
                <a:solidFill>
                  <a:srgbClr val="284e6a"/>
                </a:solidFill>
                <a:latin typeface="Bookman Old Style"/>
              </a:rPr>
              <a:t>(fund charge – 3%)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     if fund charge &gt; 3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6946920" cy="1587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629160" cy="2470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34120" y="29718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 average</a:t>
            </a:r>
            <a:endParaRPr b="0" lang="en-US" sz="10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76560" y="3200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3ED-CD1C-4199-8CF5-862CCDBDFF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7:01Z</dcterms:created>
  <dc:creator/>
  <dc:description/>
  <dc:language>en-US</dc:language>
  <cp:lastModifiedBy/>
  <dcterms:modified xsi:type="dcterms:W3CDTF">2006-11-18T14:09:23Z</dcterms:modified>
  <cp:revision>72</cp:revision>
  <dc:subject/>
  <dc:title>Company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57487201</vt:r8>
  </property>
  <property fmtid="{D5CDD505-2E9C-101B-9397-08002B2CF9AE}" pid="3" name="_TemplateID">
    <vt:lpwstr>TC100819221033</vt:lpwstr>
  </property>
</Properties>
</file>